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538-BEED-4155-A16E-22D86BDB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C8B-1A90-4540-AC4C-49D0BE81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07B-3396-4868-BCFE-62D8BC9E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C0A-B49C-4F31-8BF4-129C866D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0931-CB05-4223-9A9C-FEE51A6A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1747-1CCD-4E79-94C7-4E77E351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A8A7-57A4-4990-9D6E-CDC091E5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ECA4-EC27-4D9D-97F4-2018E916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D7DE-C90A-4B90-BD17-45EF5063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CBAE-4C6E-4B76-9EA5-4B866145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030B-EB62-4B29-85FF-AABEF628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FB3-D9BA-4F96-941B-487F368E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895A-58D9-4DFD-A66B-A64CBE26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0D24-86A4-4BB8-BA3C-3DF5879B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AB3C-A21D-415C-8EB2-A7D9CB39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078C-39A0-4CF9-968E-A74E382A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5950-8AB1-4979-831C-F41F7039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CF6AD-BD38-4EC6-9FE0-906F4B86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E91E-0AA8-4EA3-A449-A31FAD0B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ACEB-56A1-4450-9331-5055394D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A7A12-D488-4F60-B22F-AB85BA65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0FD62-9DAF-4DDD-8E19-44B10899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777-C959-4D27-9809-70340511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407B-F6C8-4A72-A446-C5209025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32BD0-2714-405C-A2A2-285FE23A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9832-F33D-4617-A93A-C30C1469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5E4B6-1359-4528-B824-1E53DAD5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DD8C-EED9-4A3D-96BE-B961BED1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1DE56-AA7E-41B1-A882-046D3EBB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1B477-6128-471B-AD7A-73B0C94D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0096C-7D05-4980-92DC-F48ED6D1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3262-0E02-4647-8B40-7F0A2DF9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94CB0-B547-4905-BFDB-BD8BF467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0B4-82B3-45C3-BACE-708C7EA9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CEE3-8A6F-4DAC-B018-A38884B6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D92D-D454-43B8-A9B4-9A41EBCF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754A-087A-43D6-8329-2143682B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5D97A-6E8B-4F35-AE9C-602AD9E2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7BCDC-9484-4409-886F-199D1307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433C6-8FA5-4322-97A8-9ABFD550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1177E-1CD4-4F12-8CC5-40B0F8C3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666CE-C35C-48F9-A000-E0DD5A6B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1CD4C-0592-4F6E-9989-13272440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E39-4CB5-4FF3-8CD1-8592CAB4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FEE-B7E8-452A-B521-63A7E1C8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697-CFA4-4081-A33C-A66C1C81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B4F-20D5-4DA6-B123-9D8F658D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B83-3363-4417-9AE3-83BECA35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487C-3286-47E7-92D2-B7FFFACBB5E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140A-2488-4536-A0D5-A9A139FDA39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6C80-01D3-4D26-885B-D8C4EAA32F2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C494-1ECE-4DEB-B83C-E739CDF9B88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iology: Exploring Lif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1.3 Cells are the structural and functional units of life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the basic unit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lowest level of structure that  can perform all activities for li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ergent Proper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The arrangement and interactions of parts as complexity increases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81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ukaryotic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81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ain membrane-enclosed organelles, including a DNA-containing nucle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81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rokaryotic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81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ck such organel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20"/>
          <p:cNvGrpSpPr/>
          <p:nvPr/>
        </p:nvGrpSpPr>
        <p:grpSpPr>
          <a:xfrm>
            <a:off x="5362560" y="3610080"/>
            <a:ext cx="3245400" cy="2846160"/>
            <a:chOff x="5362560" y="3610080"/>
            <a:chExt cx="3245400" cy="2846160"/>
          </a:xfrm>
        </p:grpSpPr>
        <p:pic>
          <p:nvPicPr>
            <p:cNvPr id="266" name="Picture 7" descr="01_03ProkEukCellSize_U.jpg                                     001D064B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5362560" y="3610080"/>
              <a:ext cx="313524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Line 8"/>
            <p:cNvSpPr/>
            <p:nvPr/>
          </p:nvSpPr>
          <p:spPr>
            <a:xfrm flipV="1">
              <a:off x="5551200" y="4047480"/>
              <a:ext cx="359280" cy="86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9"/>
            <p:cNvSpPr/>
            <p:nvPr/>
          </p:nvSpPr>
          <p:spPr>
            <a:xfrm flipV="1">
              <a:off x="6146640" y="4202280"/>
              <a:ext cx="38988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0"/>
            <p:cNvSpPr/>
            <p:nvPr/>
          </p:nvSpPr>
          <p:spPr>
            <a:xfrm flipV="1">
              <a:off x="7709400" y="40939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7356960" y="4714920"/>
              <a:ext cx="52272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 flipV="1">
              <a:off x="7126560" y="5495760"/>
              <a:ext cx="56880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3"/>
            <p:cNvSpPr/>
            <p:nvPr/>
          </p:nvSpPr>
          <p:spPr>
            <a:xfrm flipH="1">
              <a:off x="7337160" y="5496120"/>
              <a:ext cx="35784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4"/>
            <p:cNvSpPr/>
            <p:nvPr/>
          </p:nvSpPr>
          <p:spPr>
            <a:xfrm>
              <a:off x="5422680" y="3713040"/>
              <a:ext cx="103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contains DN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>
              <a:off x="6432480" y="4105080"/>
              <a:ext cx="869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kar</a:t>
              </a: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oti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6"/>
            <p:cNvSpPr/>
            <p:nvPr/>
          </p:nvSpPr>
          <p:spPr>
            <a:xfrm>
              <a:off x="7157520" y="3895920"/>
              <a:ext cx="11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kar</a:t>
              </a: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otic c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7"/>
            <p:cNvSpPr/>
            <p:nvPr/>
          </p:nvSpPr>
          <p:spPr>
            <a:xfrm>
              <a:off x="7475760" y="5051880"/>
              <a:ext cx="877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no nucleu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7580520" y="538056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el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 rot="16200000">
              <a:off x="8133840" y="5982120"/>
              <a:ext cx="70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,000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1"/>
          <p:cNvSpPr/>
          <p:nvPr/>
        </p:nvSpPr>
        <p:spPr>
          <a:xfrm>
            <a:off x="2169360" y="57103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VOLUTION, UNITY, AND DIVERSI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4 The unity of life: All forms of life have common feat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NA is the genetic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or constructing the molecules that make up cells and organism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04920" y="685440"/>
            <a:ext cx="85341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88240" indent="-307800">
              <a:spcBef>
                <a:spcPts val="68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ch species’ genetic instruc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1668960" indent="-490320">
              <a:spcBef>
                <a:spcPts val="68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re coded in the sequences of the four building blocks making up DNA’s two helically coiled chai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1"/>
          <p:cNvGrpSpPr/>
          <p:nvPr/>
        </p:nvGrpSpPr>
        <p:grpSpPr>
          <a:xfrm>
            <a:off x="4441680" y="1952640"/>
            <a:ext cx="895320" cy="4549680"/>
            <a:chOff x="4441680" y="1952640"/>
            <a:chExt cx="895320" cy="4549680"/>
          </a:xfrm>
        </p:grpSpPr>
        <p:pic>
          <p:nvPicPr>
            <p:cNvPr id="286" name="Picture 6" descr="01_04aDNAstrand_U.jpg                                          001D064B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4441680" y="1952640"/>
              <a:ext cx="895320" cy="45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7"/>
            <p:cNvSpPr/>
            <p:nvPr/>
          </p:nvSpPr>
          <p:spPr>
            <a:xfrm>
              <a:off x="4797360" y="21304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4695840" y="2421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4710600" y="2725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0"/>
            <p:cNvSpPr/>
            <p:nvPr/>
          </p:nvSpPr>
          <p:spPr>
            <a:xfrm>
              <a:off x="4806720" y="3021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4704120" y="3319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4794120" y="36180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4687920" y="3925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4687920" y="42339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4808880" y="45277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4704120" y="48387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7"/>
            <p:cNvSpPr/>
            <p:nvPr/>
          </p:nvSpPr>
          <p:spPr>
            <a:xfrm>
              <a:off x="4795560" y="5143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4797720" y="54403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9"/>
            <p:cNvSpPr/>
            <p:nvPr/>
          </p:nvSpPr>
          <p:spPr>
            <a:xfrm>
              <a:off x="4704120" y="57564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4808160" y="6059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22"/>
          <p:cNvSpPr/>
          <p:nvPr/>
        </p:nvSpPr>
        <p:spPr>
          <a:xfrm>
            <a:off x="2169360" y="61801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685800"/>
            <a:ext cx="853416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lvl="1" marL="338760" indent="-177120">
              <a:lnSpc>
                <a:spcPct val="80000"/>
              </a:lnSpc>
              <a:spcBef>
                <a:spcPts val="8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organisms share a common set of featu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rdered structu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gulation of internal condi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owth and develop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nergy u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sponse to environmental stimul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bility to reproduce and evolv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61560" indent="-282240">
              <a:lnSpc>
                <a:spcPct val="80000"/>
              </a:lnSpc>
              <a:spcBef>
                <a:spcPts val="87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571680" y="3448080"/>
            <a:ext cx="7800480" cy="3139560"/>
            <a:chOff x="571680" y="3448080"/>
            <a:chExt cx="7800480" cy="3139560"/>
          </a:xfrm>
        </p:grpSpPr>
        <p:grpSp>
          <p:nvGrpSpPr>
            <p:cNvPr id="306" name="Group 7"/>
            <p:cNvGrpSpPr/>
            <p:nvPr/>
          </p:nvGrpSpPr>
          <p:grpSpPr>
            <a:xfrm>
              <a:off x="571680" y="3448080"/>
              <a:ext cx="7800480" cy="3014640"/>
              <a:chOff x="571680" y="3448080"/>
              <a:chExt cx="7800480" cy="3014640"/>
            </a:xfrm>
          </p:grpSpPr>
          <p:pic>
            <p:nvPicPr>
              <p:cNvPr id="307" name="Picture 5" descr="01_04dResponseToStimuli_UP.jpg                                 001D064BAbhinav                        B9EC3DD1:"/>
              <p:cNvPicPr/>
              <p:nvPr/>
            </p:nvPicPr>
            <p:blipFill>
              <a:blip r:embed="rId1"/>
              <a:stretch/>
            </p:blipFill>
            <p:spPr>
              <a:xfrm>
                <a:off x="571680" y="3448080"/>
                <a:ext cx="3561120" cy="300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6" descr="01_04eReproduction_UP.jpg                                      001D064BAbhinav                        B9EC3DD1:"/>
              <p:cNvPicPr/>
              <p:nvPr/>
            </p:nvPicPr>
            <p:blipFill>
              <a:blip r:embed="rId2"/>
              <a:stretch/>
            </p:blipFill>
            <p:spPr>
              <a:xfrm>
                <a:off x="4029480" y="3460680"/>
                <a:ext cx="4342680" cy="3002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9" name="Text Box 8"/>
            <p:cNvSpPr/>
            <p:nvPr/>
          </p:nvSpPr>
          <p:spPr>
            <a:xfrm>
              <a:off x="610200" y="631116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.4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4061520" y="6311160"/>
              <a:ext cx="10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.4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3"/>
          <p:cNvGrpSpPr/>
          <p:nvPr/>
        </p:nvGrpSpPr>
        <p:grpSpPr>
          <a:xfrm>
            <a:off x="685800" y="714240"/>
            <a:ext cx="5924160" cy="2648880"/>
            <a:chOff x="685800" y="714240"/>
            <a:chExt cx="5924160" cy="2648880"/>
          </a:xfrm>
        </p:grpSpPr>
        <p:pic>
          <p:nvPicPr>
            <p:cNvPr id="312" name="Picture 5" descr="01_04bLifeIsOrdered_UP.jpg                                     001D064BAbhinav                        B9EC3DD1:"/>
            <p:cNvPicPr/>
            <p:nvPr/>
          </p:nvPicPr>
          <p:blipFill>
            <a:blip r:embed="rId3"/>
            <a:stretch/>
          </p:blipFill>
          <p:spPr>
            <a:xfrm>
              <a:off x="685800" y="714240"/>
              <a:ext cx="353808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9"/>
            <p:cNvSpPr/>
            <p:nvPr/>
          </p:nvSpPr>
          <p:spPr>
            <a:xfrm>
              <a:off x="765360" y="308664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.4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Picture 8" descr="01_04cHomeostasis_UP.jpg                                       001D064BAbhinav                        B9EC3DD1:"/>
            <p:cNvPicPr/>
            <p:nvPr/>
          </p:nvPicPr>
          <p:blipFill>
            <a:blip r:embed="rId4"/>
            <a:stretch/>
          </p:blipFill>
          <p:spPr>
            <a:xfrm>
              <a:off x="4059360" y="758520"/>
              <a:ext cx="2550600" cy="24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7"/>
            <p:cNvSpPr/>
            <p:nvPr/>
          </p:nvSpPr>
          <p:spPr>
            <a:xfrm>
              <a:off x="4103280" y="308664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.4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1.5 The diversity of life can be arranged into three domai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sms are grouped (classified)in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348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okaryotic domain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348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acteria and Archae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348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ukaryotic domain (Eukarya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17"/>
          <p:cNvGrpSpPr/>
          <p:nvPr/>
        </p:nvGrpSpPr>
        <p:grpSpPr>
          <a:xfrm>
            <a:off x="4579920" y="3678120"/>
            <a:ext cx="4124880" cy="2803680"/>
            <a:chOff x="4579920" y="3678120"/>
            <a:chExt cx="4124880" cy="2803680"/>
          </a:xfrm>
        </p:grpSpPr>
        <p:grpSp>
          <p:nvGrpSpPr>
            <p:cNvPr id="320" name="Group 13"/>
            <p:cNvGrpSpPr/>
            <p:nvPr/>
          </p:nvGrpSpPr>
          <p:grpSpPr>
            <a:xfrm>
              <a:off x="4579920" y="3678120"/>
              <a:ext cx="4124880" cy="2697120"/>
              <a:chOff x="4579920" y="3678120"/>
              <a:chExt cx="4124880" cy="2697120"/>
            </a:xfrm>
          </p:grpSpPr>
          <p:pic>
            <p:nvPicPr>
              <p:cNvPr id="321" name="Picture 10" descr="01_05bDomainArchaea_UP.jpg                                     001D064BAbhinav                        B9EC3DD1:"/>
              <p:cNvPicPr/>
              <p:nvPr/>
            </p:nvPicPr>
            <p:blipFill>
              <a:blip r:embed="rId1"/>
              <a:stretch/>
            </p:blipFill>
            <p:spPr>
              <a:xfrm>
                <a:off x="4579920" y="3678120"/>
                <a:ext cx="4025880" cy="269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 rot="16200000">
                <a:off x="7994520" y="5635800"/>
                <a:ext cx="1143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M 25,00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Text Box 16"/>
            <p:cNvSpPr/>
            <p:nvPr/>
          </p:nvSpPr>
          <p:spPr>
            <a:xfrm>
              <a:off x="4645800" y="620532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.5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mains Bacteria and Archae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8"/>
          <p:cNvGrpSpPr/>
          <p:nvPr/>
        </p:nvGrpSpPr>
        <p:grpSpPr>
          <a:xfrm>
            <a:off x="327600" y="1274760"/>
            <a:ext cx="4401000" cy="2641680"/>
            <a:chOff x="327600" y="1274760"/>
            <a:chExt cx="4401000" cy="2641680"/>
          </a:xfrm>
        </p:grpSpPr>
        <p:grpSp>
          <p:nvGrpSpPr>
            <p:cNvPr id="327" name="Group 12"/>
            <p:cNvGrpSpPr/>
            <p:nvPr/>
          </p:nvGrpSpPr>
          <p:grpSpPr>
            <a:xfrm>
              <a:off x="414360" y="1274760"/>
              <a:ext cx="4314240" cy="2482560"/>
              <a:chOff x="414360" y="1274760"/>
              <a:chExt cx="4314240" cy="2482560"/>
            </a:xfrm>
          </p:grpSpPr>
          <p:pic>
            <p:nvPicPr>
              <p:cNvPr id="328" name="Picture 6" descr="&#10;01_05a.jpg                                                     001D064BAbhinav                        B9EC3DD1:"/>
              <p:cNvPicPr/>
              <p:nvPr/>
            </p:nvPicPr>
            <p:blipFill>
              <a:blip r:embed="rId2"/>
              <a:stretch/>
            </p:blipFill>
            <p:spPr>
              <a:xfrm>
                <a:off x="414360" y="1274760"/>
                <a:ext cx="4090680" cy="240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Text Box 7"/>
              <p:cNvSpPr/>
              <p:nvPr/>
            </p:nvSpPr>
            <p:spPr>
              <a:xfrm rot="16200000">
                <a:off x="4061160" y="3089880"/>
                <a:ext cx="1058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M 3,25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Text Box 15"/>
            <p:cNvSpPr/>
            <p:nvPr/>
          </p:nvSpPr>
          <p:spPr>
            <a:xfrm>
              <a:off x="327600" y="363996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.5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04920" y="685440"/>
            <a:ext cx="85341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9280" indent="-334800">
              <a:spcBef>
                <a:spcPts val="81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ain Eukarya inclu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96920" indent="-533520">
              <a:spcBef>
                <a:spcPts val="81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ists (protozoans and algae, falling into multiple kingdom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96920" indent="-533520">
              <a:spcBef>
                <a:spcPts val="81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kingdoms Fungi, Plantae, and Animal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01_05cDomainEukarya_UP.jpg                                     001D064BAbhinav                        B9EC3DD1:"/>
          <p:cNvPicPr/>
          <p:nvPr/>
        </p:nvPicPr>
        <p:blipFill>
          <a:blip r:embed="rId1"/>
          <a:stretch/>
        </p:blipFill>
        <p:spPr>
          <a:xfrm>
            <a:off x="3227400" y="2701800"/>
            <a:ext cx="4618080" cy="38084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 rot="16200000">
            <a:off x="3004560" y="3711960"/>
            <a:ext cx="49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5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3542040" y="4000680"/>
            <a:ext cx="127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is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multiple kingdo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6327000" y="3084480"/>
            <a:ext cx="102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ngdom Fung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6445080" y="3860640"/>
            <a:ext cx="119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ngdom Anim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490360" y="6019920"/>
            <a:ext cx="67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ng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2169360" y="62182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5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01_06aCharlesDarwin_UP.jpg                                     001D064BAbhinav                        B9EC3DD1:"/>
          <p:cNvPicPr/>
          <p:nvPr/>
        </p:nvPicPr>
        <p:blipFill>
          <a:blip r:embed="rId1"/>
          <a:stretch/>
        </p:blipFill>
        <p:spPr>
          <a:xfrm>
            <a:off x="5357880" y="2925720"/>
            <a:ext cx="3109680" cy="39322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1.6 Evolution explains the unity and diversity of lif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83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harles Dar</a:t>
            </a:r>
            <a:r>
              <a:rPr b="0" lang="en-US" sz="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wi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83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ynthesized the theory of evolution by natural selectio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169360" y="5710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6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Big-Billed Bird Rebou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own pelic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 part of the web of life in their environme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01_UN0BrownPelican_UP.jpg                                      0050B28A203                            BE8E5D66:"/>
          <p:cNvPicPr/>
          <p:nvPr/>
        </p:nvPicPr>
        <p:blipFill>
          <a:blip r:embed="rId1"/>
          <a:stretch/>
        </p:blipFill>
        <p:spPr>
          <a:xfrm>
            <a:off x="2311560" y="3505320"/>
            <a:ext cx="486252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14"/>
          <p:cNvGrpSpPr/>
          <p:nvPr/>
        </p:nvGrpSpPr>
        <p:grpSpPr>
          <a:xfrm>
            <a:off x="4460760" y="2568600"/>
            <a:ext cx="3240360" cy="3957480"/>
            <a:chOff x="4460760" y="2568600"/>
            <a:chExt cx="3240360" cy="3957480"/>
          </a:xfrm>
        </p:grpSpPr>
        <p:pic>
          <p:nvPicPr>
            <p:cNvPr id="346" name="Picture 6" descr="01_06bNaturalSelection_U.jpg                                   001D064B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4460760" y="2568600"/>
              <a:ext cx="324036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7"/>
            <p:cNvSpPr/>
            <p:nvPr/>
          </p:nvSpPr>
          <p:spPr>
            <a:xfrm>
              <a:off x="4528800" y="3676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8"/>
            <p:cNvSpPr/>
            <p:nvPr/>
          </p:nvSpPr>
          <p:spPr>
            <a:xfrm>
              <a:off x="4533840" y="49528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9"/>
            <p:cNvSpPr/>
            <p:nvPr/>
          </p:nvSpPr>
          <p:spPr>
            <a:xfrm>
              <a:off x="4533840" y="62323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0"/>
            <p:cNvSpPr/>
            <p:nvPr/>
          </p:nvSpPr>
          <p:spPr>
            <a:xfrm>
              <a:off x="4645080" y="3670200"/>
              <a:ext cx="23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s with varied inherited tra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1"/>
            <p:cNvSpPr/>
            <p:nvPr/>
          </p:nvSpPr>
          <p:spPr>
            <a:xfrm>
              <a:off x="4652280" y="4944960"/>
              <a:ext cx="254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imination of individuals with certain tra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4637520" y="6215040"/>
              <a:ext cx="1616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roduction of survivo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 txBox="1"/>
          <p:nvPr/>
        </p:nvSpPr>
        <p:spPr>
          <a:xfrm>
            <a:off x="304920" y="685440"/>
            <a:ext cx="85341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314640">
              <a:spcBef>
                <a:spcPts val="71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Natural selection is an editing mechanism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2" marL="1705320" indent="-501120">
              <a:spcBef>
                <a:spcPts val="71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That occurs when populations or organisms, having inherited variations, are exposed to environmental factors that favor the reproductive success of some individuals over others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169360" y="60148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6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81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organisms have adapt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81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t have evolved by means of natural sel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01_06cAdaptations_UP.jpg                                       001D064BAbhinav                        B9EC3DD1:"/>
          <p:cNvPicPr/>
          <p:nvPr/>
        </p:nvPicPr>
        <p:blipFill>
          <a:blip r:embed="rId1"/>
          <a:stretch/>
        </p:blipFill>
        <p:spPr>
          <a:xfrm>
            <a:off x="4370400" y="2471760"/>
            <a:ext cx="3200400" cy="2998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&#10;01_06c.jpg                                                     001D064BAbhinav                        B9EC3DD1:"/>
          <p:cNvPicPr/>
          <p:nvPr/>
        </p:nvPicPr>
        <p:blipFill>
          <a:blip r:embed="rId2"/>
          <a:stretch/>
        </p:blipFill>
        <p:spPr>
          <a:xfrm>
            <a:off x="3463920" y="2076480"/>
            <a:ext cx="4659480" cy="43639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8"/>
          <p:cNvSpPr/>
          <p:nvPr/>
        </p:nvSpPr>
        <p:spPr>
          <a:xfrm>
            <a:off x="3527280" y="238140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ller wh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3542040" y="41022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go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2169360" y="609120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6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Calibri"/>
              </a:rPr>
              <a:t>THE PROCESS OF SCIENCE</a:t>
            </a:r>
            <a:br>
              <a:rPr sz="1800"/>
            </a:b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1.7 Scientists use two main approaches to learn about nature</a:t>
            </a:r>
            <a:br>
              <a:rPr sz="18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ce : Latin verb meaning “to Know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ce seeks to understand natural causes for natural phenome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Scientific Approac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scove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ypothesis-Bases Scien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iscovery Sc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discovery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cientists describe some aspect of the world and use inductive reasoning to draw general conclus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Hypothesis-Based Sc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hypothesis-based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cientists attempt to explain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bser</a:t>
            </a:r>
            <a:r>
              <a:rPr b="0" lang="en-US" sz="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vations by testing hypothes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67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1.8 With hypothesis-based science, we pose and test hypotheses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pothesis-based science invol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bser</a:t>
            </a:r>
            <a:r>
              <a:rPr b="0" lang="en-US" sz="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va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Ques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ypotheses as tentative answers to ques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eductions leading to predic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ests of predic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920" y="685440"/>
            <a:ext cx="853416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A Case Study from Ever</a:t>
            </a:r>
            <a:r>
              <a:rPr b="0" i="1" lang="en-US" sz="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yday Life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321120">
              <a:spcBef>
                <a:spcPts val="68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ductive reasoning is used in testing hypotheses as follow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1741680" indent="-511560">
              <a:spcBef>
                <a:spcPts val="68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f a hypothesis is correct, and we test it, then we can expect a par</a:t>
            </a:r>
            <a:r>
              <a:rPr b="0" lang="en-US" sz="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icular outcom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9"/>
          <p:cNvGrpSpPr/>
          <p:nvPr/>
        </p:nvGrpSpPr>
        <p:grpSpPr>
          <a:xfrm>
            <a:off x="4124160" y="2368440"/>
            <a:ext cx="3733920" cy="4038480"/>
            <a:chOff x="4124160" y="2368440"/>
            <a:chExt cx="3733920" cy="4038480"/>
          </a:xfrm>
        </p:grpSpPr>
        <p:pic>
          <p:nvPicPr>
            <p:cNvPr id="376" name="Picture 18" descr="01_08aScientificMethod_3_U.jpg                                 001D064B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4124160" y="2368440"/>
              <a:ext cx="373392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19"/>
            <p:cNvSpPr/>
            <p:nvPr/>
          </p:nvSpPr>
          <p:spPr>
            <a:xfrm>
              <a:off x="5601960" y="2887560"/>
              <a:ext cx="78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serv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20"/>
            <p:cNvSpPr/>
            <p:nvPr/>
          </p:nvSpPr>
          <p:spPr>
            <a:xfrm>
              <a:off x="5683680" y="361440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1"/>
            <p:cNvSpPr/>
            <p:nvPr/>
          </p:nvSpPr>
          <p:spPr>
            <a:xfrm>
              <a:off x="4623840" y="38448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thesis # 1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ad batter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22"/>
            <p:cNvSpPr/>
            <p:nvPr/>
          </p:nvSpPr>
          <p:spPr>
            <a:xfrm>
              <a:off x="6463800" y="38448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thesis # 2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urnt-out bul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23"/>
            <p:cNvSpPr/>
            <p:nvPr/>
          </p:nvSpPr>
          <p:spPr>
            <a:xfrm>
              <a:off x="4548600" y="4249440"/>
              <a:ext cx="105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diction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lacing batter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ill fix probl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4"/>
            <p:cNvSpPr/>
            <p:nvPr/>
          </p:nvSpPr>
          <p:spPr>
            <a:xfrm>
              <a:off x="6482880" y="4250880"/>
              <a:ext cx="854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diction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lacing bul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ill fix probl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5"/>
            <p:cNvSpPr/>
            <p:nvPr/>
          </p:nvSpPr>
          <p:spPr>
            <a:xfrm>
              <a:off x="4638240" y="5287680"/>
              <a:ext cx="85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 predi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6"/>
            <p:cNvSpPr/>
            <p:nvPr/>
          </p:nvSpPr>
          <p:spPr>
            <a:xfrm>
              <a:off x="6486120" y="5289120"/>
              <a:ext cx="85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 predi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4428000" y="6097320"/>
              <a:ext cx="1270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 falsifies hypothe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8"/>
            <p:cNvSpPr/>
            <p:nvPr/>
          </p:nvSpPr>
          <p:spPr>
            <a:xfrm>
              <a:off x="6159240" y="6090840"/>
              <a:ext cx="161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 does not falsify hypothe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30"/>
          <p:cNvSpPr/>
          <p:nvPr/>
        </p:nvSpPr>
        <p:spPr>
          <a:xfrm>
            <a:off x="2169360" y="610380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8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 Case Study of Hypothesis-Based Scie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321120">
              <a:spcBef>
                <a:spcPts val="81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experiments designed to test hypothe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741680" indent="-511560">
              <a:spcBef>
                <a:spcPts val="81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use of control groups and experimental groups helps to control vari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38"/>
          <p:cNvGrpSpPr/>
          <p:nvPr/>
        </p:nvGrpSpPr>
        <p:grpSpPr>
          <a:xfrm>
            <a:off x="539640" y="3200400"/>
            <a:ext cx="8109000" cy="3187800"/>
            <a:chOff x="539640" y="3200400"/>
            <a:chExt cx="8109000" cy="3187800"/>
          </a:xfrm>
        </p:grpSpPr>
        <p:grpSp>
          <p:nvGrpSpPr>
            <p:cNvPr id="391" name="Group 15"/>
            <p:cNvGrpSpPr/>
            <p:nvPr/>
          </p:nvGrpSpPr>
          <p:grpSpPr>
            <a:xfrm>
              <a:off x="539640" y="3200400"/>
              <a:ext cx="4565880" cy="3106800"/>
              <a:chOff x="539640" y="3200400"/>
              <a:chExt cx="4565880" cy="3106800"/>
            </a:xfrm>
          </p:grpSpPr>
          <p:pic>
            <p:nvPicPr>
              <p:cNvPr id="392" name="Picture 14" descr="01_08ArtificalbrownSnake_UP.jpg                                001D064BAbhinav                        B9EC3DD1:"/>
              <p:cNvPicPr/>
              <p:nvPr/>
            </p:nvPicPr>
            <p:blipFill>
              <a:blip r:embed="rId1"/>
              <a:stretch/>
            </p:blipFill>
            <p:spPr>
              <a:xfrm>
                <a:off x="539640" y="4578120"/>
                <a:ext cx="4565880" cy="172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Picture 5" descr="01_08bEasterCoralSnake_UP.jpg                                  001D064BAbhinav                        B9EC3DD1:"/>
              <p:cNvPicPr/>
              <p:nvPr/>
            </p:nvPicPr>
            <p:blipFill>
              <a:blip r:embed="rId2"/>
              <a:stretch/>
            </p:blipFill>
            <p:spPr>
              <a:xfrm>
                <a:off x="593640" y="3200400"/>
                <a:ext cx="2266920" cy="142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Picture 6" descr="01_08cScarletKingSnake_UP.jpg                                  001D064BAbhinav                        B9EC3DD1:"/>
              <p:cNvPicPr/>
              <p:nvPr/>
            </p:nvPicPr>
            <p:blipFill>
              <a:blip r:embed="rId3"/>
              <a:stretch/>
            </p:blipFill>
            <p:spPr>
              <a:xfrm>
                <a:off x="2822400" y="3219480"/>
                <a:ext cx="2198880" cy="138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5" name="Group 33"/>
            <p:cNvGrpSpPr/>
            <p:nvPr/>
          </p:nvGrpSpPr>
          <p:grpSpPr>
            <a:xfrm>
              <a:off x="5065560" y="3589200"/>
              <a:ext cx="3583080" cy="2187000"/>
              <a:chOff x="5065560" y="3589200"/>
              <a:chExt cx="3583080" cy="2187000"/>
            </a:xfrm>
          </p:grpSpPr>
          <p:pic>
            <p:nvPicPr>
              <p:cNvPr id="396" name="Picture 17" descr="01_08eMimicryExperiment_U.jpg                                  001D064BAbhinav                        B9EC3DD1:"/>
              <p:cNvPicPr/>
              <p:nvPr/>
            </p:nvPicPr>
            <p:blipFill>
              <a:blip r:embed="rId4"/>
              <a:stretch/>
            </p:blipFill>
            <p:spPr>
              <a:xfrm>
                <a:off x="5429160" y="3603600"/>
                <a:ext cx="3219480" cy="195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 Box 18"/>
              <p:cNvSpPr/>
              <p:nvPr/>
            </p:nvSpPr>
            <p:spPr>
              <a:xfrm rot="16200000">
                <a:off x="4621680" y="4430160"/>
                <a:ext cx="122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ercent of total att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 artificial snak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19"/>
              <p:cNvSpPr/>
              <p:nvPr/>
            </p:nvSpPr>
            <p:spPr>
              <a:xfrm>
                <a:off x="5231880" y="3589200"/>
                <a:ext cx="34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20"/>
              <p:cNvSpPr/>
              <p:nvPr/>
            </p:nvSpPr>
            <p:spPr>
              <a:xfrm>
                <a:off x="5295240" y="3925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21"/>
              <p:cNvSpPr/>
              <p:nvPr/>
            </p:nvSpPr>
            <p:spPr>
              <a:xfrm>
                <a:off x="5287320" y="42894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22"/>
              <p:cNvSpPr/>
              <p:nvPr/>
            </p:nvSpPr>
            <p:spPr>
              <a:xfrm>
                <a:off x="5293800" y="46386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23"/>
              <p:cNvSpPr/>
              <p:nvPr/>
            </p:nvSpPr>
            <p:spPr>
              <a:xfrm>
                <a:off x="5293800" y="49766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 Box 24"/>
              <p:cNvSpPr/>
              <p:nvPr/>
            </p:nvSpPr>
            <p:spPr>
              <a:xfrm>
                <a:off x="5359680" y="5335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25"/>
              <p:cNvSpPr/>
              <p:nvPr/>
            </p:nvSpPr>
            <p:spPr>
              <a:xfrm>
                <a:off x="5569200" y="3811680"/>
                <a:ext cx="38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3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26"/>
              <p:cNvSpPr/>
              <p:nvPr/>
            </p:nvSpPr>
            <p:spPr>
              <a:xfrm>
                <a:off x="5793120" y="4970520"/>
                <a:ext cx="38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7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27"/>
              <p:cNvSpPr/>
              <p:nvPr/>
            </p:nvSpPr>
            <p:spPr>
              <a:xfrm>
                <a:off x="6343920" y="4991040"/>
                <a:ext cx="38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6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28"/>
              <p:cNvSpPr/>
              <p:nvPr/>
            </p:nvSpPr>
            <p:spPr>
              <a:xfrm>
                <a:off x="6593400" y="3795840"/>
                <a:ext cx="38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4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29"/>
              <p:cNvSpPr/>
              <p:nvPr/>
            </p:nvSpPr>
            <p:spPr>
              <a:xfrm>
                <a:off x="7350480" y="3724200"/>
                <a:ext cx="1110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rtificial king snak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30"/>
              <p:cNvSpPr/>
              <p:nvPr/>
            </p:nvSpPr>
            <p:spPr>
              <a:xfrm>
                <a:off x="7337520" y="4060800"/>
                <a:ext cx="1198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rtificial brown snak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31"/>
              <p:cNvSpPr/>
              <p:nvPr/>
            </p:nvSpPr>
            <p:spPr>
              <a:xfrm>
                <a:off x="5484600" y="543240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ral snak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bs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32"/>
              <p:cNvSpPr/>
              <p:nvPr/>
            </p:nvSpPr>
            <p:spPr>
              <a:xfrm>
                <a:off x="6271920" y="543888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ral snak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s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Text Box 34"/>
            <p:cNvSpPr/>
            <p:nvPr/>
          </p:nvSpPr>
          <p:spPr>
            <a:xfrm>
              <a:off x="582840" y="4503600"/>
              <a:ext cx="8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gure 1.8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5"/>
            <p:cNvSpPr/>
            <p:nvPr/>
          </p:nvSpPr>
          <p:spPr>
            <a:xfrm>
              <a:off x="2792520" y="4503600"/>
              <a:ext cx="8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gure 1.8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6"/>
            <p:cNvSpPr/>
            <p:nvPr/>
          </p:nvSpPr>
          <p:spPr>
            <a:xfrm>
              <a:off x="582840" y="6141960"/>
              <a:ext cx="8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gure 1.8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7"/>
            <p:cNvSpPr/>
            <p:nvPr/>
          </p:nvSpPr>
          <p:spPr>
            <a:xfrm>
              <a:off x="5560920" y="579132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gure 1.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BIOLOGY AND EVERYDAY LIFE CONNECTION</a:t>
            </a:r>
            <a:br>
              <a:rPr sz="3600"/>
            </a:br>
            <a:r>
              <a:rPr b="0" lang="en-US" sz="3100" spc="-1" strike="noStrike">
                <a:solidFill>
                  <a:srgbClr val="04617b"/>
                </a:solidFill>
                <a:latin typeface="Calibri"/>
              </a:rPr>
              <a:t>1.9 Biology is Connected to our lives in many ways</a:t>
            </a:r>
            <a:br>
              <a:rPr sz="3100"/>
            </a:b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814400" indent="-5331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nvironmental Problems and Solu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enetic Engineer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dic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technological adva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em from scientific resear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cience-technology-society relationshi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an impor</a:t>
            </a:r>
            <a:r>
              <a:rPr b="0" lang="en-US" sz="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nt aspect of a biology cour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onnections to everyday life cont.,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5" descr="01_09Magazines_UP.jpg                                          0050B28A203                            BE6099DA:"/>
          <p:cNvPicPr/>
          <p:nvPr/>
        </p:nvPicPr>
        <p:blipFill>
          <a:blip r:embed="rId1"/>
          <a:stretch/>
        </p:blipFill>
        <p:spPr>
          <a:xfrm>
            <a:off x="1181160" y="1866960"/>
            <a:ext cx="6648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04560" y="685800"/>
            <a:ext cx="8628120" cy="25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brown pelicans’ proximity to hum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s meant trouble for the spec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brown pelicans’ connection to the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ts the stage for the study of biolo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1" descr="01_UN1BrownPelican_UP.jpg                                      001D064BAbhinav                        B9EC3DD1:"/>
          <p:cNvPicPr/>
          <p:nvPr/>
        </p:nvPicPr>
        <p:blipFill>
          <a:blip r:embed="rId1"/>
          <a:stretch/>
        </p:blipFill>
        <p:spPr>
          <a:xfrm>
            <a:off x="2554200" y="3133800"/>
            <a:ext cx="403560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9"/>
          <p:cNvGrpSpPr/>
          <p:nvPr/>
        </p:nvGrpSpPr>
        <p:grpSpPr>
          <a:xfrm>
            <a:off x="3906720" y="1981080"/>
            <a:ext cx="4998960" cy="4522680"/>
            <a:chOff x="3906720" y="1981080"/>
            <a:chExt cx="4998960" cy="4522680"/>
          </a:xfrm>
        </p:grpSpPr>
        <p:pic>
          <p:nvPicPr>
            <p:cNvPr id="205" name="Picture 6" descr="01_01HierarchyOrgLife_U.jpg                                    001D064BAbhinav                        B9EC3DD1:"/>
            <p:cNvPicPr/>
            <p:nvPr/>
          </p:nvPicPr>
          <p:blipFill>
            <a:blip r:embed="rId1"/>
            <a:stretch/>
          </p:blipFill>
          <p:spPr>
            <a:xfrm>
              <a:off x="3932280" y="1981080"/>
              <a:ext cx="497340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7"/>
            <p:cNvSpPr/>
            <p:nvPr/>
          </p:nvSpPr>
          <p:spPr>
            <a:xfrm>
              <a:off x="4513320" y="2082960"/>
              <a:ext cx="4932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Biospher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4934880" y="2349360"/>
              <a:ext cx="5450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cosyste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lorida coa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4125240" y="3312360"/>
              <a:ext cx="65160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ll organisms 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he Florida coa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4631760" y="3708720"/>
              <a:ext cx="6195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roup of brow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elica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1"/>
            <p:cNvSpPr/>
            <p:nvPr/>
          </p:nvSpPr>
          <p:spPr>
            <a:xfrm>
              <a:off x="5155560" y="4154400"/>
              <a:ext cx="578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rganis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rown pelica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5658120" y="4518360"/>
              <a:ext cx="637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rgan syste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ervous syste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6010200" y="4885200"/>
              <a:ext cx="3697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rga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5064120" y="5120640"/>
              <a:ext cx="601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ervous tissu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5114520" y="5769720"/>
              <a:ext cx="4626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erve cel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5871600" y="6039720"/>
              <a:ext cx="4762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rganel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6730920" y="6123240"/>
              <a:ext cx="4550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olecu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 flipH="1">
              <a:off x="6853680" y="5957640"/>
              <a:ext cx="5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6557040" y="5856840"/>
              <a:ext cx="330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to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5920200" y="5528880"/>
              <a:ext cx="0" cy="3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5729760" y="5808960"/>
              <a:ext cx="4093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2"/>
            <p:cNvSpPr/>
            <p:nvPr/>
          </p:nvSpPr>
          <p:spPr>
            <a:xfrm>
              <a:off x="5081760" y="46785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3"/>
            <p:cNvSpPr/>
            <p:nvPr/>
          </p:nvSpPr>
          <p:spPr>
            <a:xfrm>
              <a:off x="4922640" y="4868280"/>
              <a:ext cx="328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 flipH="1" flipV="1">
              <a:off x="4291200" y="4656600"/>
              <a:ext cx="43992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3906720" y="4511160"/>
              <a:ext cx="4978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pinal cor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 flipH="1">
              <a:off x="4295520" y="4900320"/>
              <a:ext cx="2736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7"/>
            <p:cNvSpPr/>
            <p:nvPr/>
          </p:nvSpPr>
          <p:spPr>
            <a:xfrm>
              <a:off x="4093200" y="4997880"/>
              <a:ext cx="349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erv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1.1 Life’s levels of organization define the scope of biolog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e’s structural hierarch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2169360" y="57103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cosyste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sts of all the organisms living in 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r</a:t>
            </a:r>
            <a:r>
              <a:rPr b="0" lang="en-US" sz="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cular are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 well as the nonliving environmental componen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the living organisms in an eco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ke up a </a:t>
            </a: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communit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04920" y="685800"/>
            <a:ext cx="853416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nsists of a localized group of individuals of a spec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individual living e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an </a:t>
            </a: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organis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04920" y="685800"/>
            <a:ext cx="853416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hierarchy continues downward wi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gan system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g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issu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el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ganel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lecu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94840" y="1066320"/>
            <a:ext cx="853452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2 Living organisms and their environmen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 interconnecting web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systems are characterized by the cycling of chemical nutrients from the atmosphere and so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334800"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334800"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sum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334800"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ecompos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ergy flows one-way through an eco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rom the sun to producers to consumers and exits as hea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f6fc6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26"/>
          <p:cNvGrpSpPr/>
          <p:nvPr/>
        </p:nvGrpSpPr>
        <p:grpSpPr>
          <a:xfrm>
            <a:off x="2530440" y="2211480"/>
            <a:ext cx="4045680" cy="4206600"/>
            <a:chOff x="2530440" y="2211480"/>
            <a:chExt cx="4045680" cy="4206600"/>
          </a:xfrm>
        </p:grpSpPr>
        <p:pic>
          <p:nvPicPr>
            <p:cNvPr id="242" name="Picture 25" descr="01_02EcosystInteractions_U.jpg                                 0050B28A203                            BE70A483:"/>
            <p:cNvPicPr/>
            <p:nvPr/>
          </p:nvPicPr>
          <p:blipFill>
            <a:blip r:embed="rId1"/>
            <a:stretch/>
          </p:blipFill>
          <p:spPr>
            <a:xfrm>
              <a:off x="2530440" y="2211480"/>
              <a:ext cx="382104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7"/>
            <p:cNvSpPr/>
            <p:nvPr/>
          </p:nvSpPr>
          <p:spPr>
            <a:xfrm>
              <a:off x="2842200" y="2585880"/>
              <a:ext cx="36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8"/>
            <p:cNvSpPr/>
            <p:nvPr/>
          </p:nvSpPr>
          <p:spPr>
            <a:xfrm>
              <a:off x="5606640" y="2805120"/>
              <a:ext cx="30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i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9"/>
            <p:cNvSpPr/>
            <p:nvPr/>
          </p:nvSpPr>
          <p:spPr>
            <a:xfrm>
              <a:off x="3039480" y="3613320"/>
              <a:ext cx="3664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0"/>
            <p:cNvSpPr/>
            <p:nvPr/>
          </p:nvSpPr>
          <p:spPr>
            <a:xfrm>
              <a:off x="5223960" y="3413160"/>
              <a:ext cx="29340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1"/>
            <p:cNvSpPr/>
            <p:nvPr/>
          </p:nvSpPr>
          <p:spPr>
            <a:xfrm>
              <a:off x="5487480" y="3419640"/>
              <a:ext cx="3664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2"/>
            <p:cNvSpPr/>
            <p:nvPr/>
          </p:nvSpPr>
          <p:spPr>
            <a:xfrm>
              <a:off x="3590280" y="5767560"/>
              <a:ext cx="3664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3"/>
            <p:cNvSpPr/>
            <p:nvPr/>
          </p:nvSpPr>
          <p:spPr>
            <a:xfrm>
              <a:off x="4277880" y="3978360"/>
              <a:ext cx="60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m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4"/>
            <p:cNvSpPr/>
            <p:nvPr/>
          </p:nvSpPr>
          <p:spPr>
            <a:xfrm>
              <a:off x="2698200" y="2989440"/>
              <a:ext cx="49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5"/>
            <p:cNvSpPr/>
            <p:nvPr/>
          </p:nvSpPr>
          <p:spPr>
            <a:xfrm>
              <a:off x="6084360" y="3041640"/>
              <a:ext cx="49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6"/>
            <p:cNvSpPr/>
            <p:nvPr/>
          </p:nvSpPr>
          <p:spPr>
            <a:xfrm>
              <a:off x="3353040" y="4913280"/>
              <a:ext cx="64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duc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7"/>
            <p:cNvSpPr/>
            <p:nvPr/>
          </p:nvSpPr>
          <p:spPr>
            <a:xfrm>
              <a:off x="4287240" y="4546440"/>
              <a:ext cx="60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ycl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m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tri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5246640" y="4900680"/>
              <a:ext cx="70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su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9"/>
            <p:cNvSpPr/>
            <p:nvPr/>
          </p:nvSpPr>
          <p:spPr>
            <a:xfrm>
              <a:off x="5176800" y="5681520"/>
              <a:ext cx="81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compos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0"/>
            <p:cNvSpPr/>
            <p:nvPr/>
          </p:nvSpPr>
          <p:spPr>
            <a:xfrm>
              <a:off x="5573520" y="6029280"/>
              <a:ext cx="351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1"/>
            <p:cNvSpPr/>
            <p:nvPr/>
          </p:nvSpPr>
          <p:spPr>
            <a:xfrm>
              <a:off x="4255560" y="6202440"/>
              <a:ext cx="71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co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813600" y="60958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3-24T12:52:04Z</cp:lastPrinted>
  <dcterms:modified xsi:type="dcterms:W3CDTF">2009-07-30T17:52:15Z</dcterms:modified>
  <cp:revision>191</cp:revision>
  <dc:subject/>
  <dc:title>Slide 1</dc:title>
</cp:coreProperties>
</file>